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12193588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0BCE-A5F2-4D98-89AF-BD1745ABF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812880" y="418788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7422-797F-4E6C-BF59-6EF3E71B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4944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E054-3395-4F4A-8C59-19AEB2DC3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67452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3580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81288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67452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3580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2DD9-EEAA-4EB2-9CFD-BB5F820B5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C0B2-F878-463A-A711-7D7873907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D6A37-4363-4DF1-8E58-90AA7B32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637A-0423-4310-9DCE-CBDF96B1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55B71-5545-4BD9-AF86-83F3E9C2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8259-B9F4-4FAC-964A-9FFEA808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12880" y="609120"/>
            <a:ext cx="846288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64ABB-DF24-4236-B67E-4BCBD974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98F3-6AB6-4693-A97F-2B884632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5A24-9B16-4AD4-A1C8-1C9E24F0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14944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65D8-C490-4A11-9E8B-3FDFE1CA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BF93F-EB84-4745-A40A-8B1A44A5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812880" y="418788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53A4-1329-434A-9867-CDCA0BD9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14944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663F-5D3D-4F16-AEBD-258A16793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7452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3580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81288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7452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3580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8024-8EFB-48DF-871B-FEAB03FF4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2CD71-810F-4CA5-B3E3-50F3B8314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8B65D-D9ED-4D21-8DA0-35FE9934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4D47D-A8A7-4489-8D39-499719E4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74641-8D09-4CA8-9EE3-4666535B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25C0F-4000-4D62-B543-9E016111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2C5C-32A2-40D5-B920-F0B5D354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812880" y="609120"/>
            <a:ext cx="846288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6F0A2-ADAF-4D1E-90DB-8C7672FF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888B4-B5CC-44BF-9C3F-2A434EEC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4944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4FB40-3BE9-40A2-B825-146E9C18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CFACF-8A56-4C09-AA47-ED3F5D55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812880" y="418788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BAEF8-0C43-4D1F-B15F-A1ED491E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4944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E966D-C7AE-4DD9-9DD4-612B5CC6A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67452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53580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81288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67452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53580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8732A-088A-47EB-909B-0287DDAB6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67CCC-1205-4E57-A565-48F26BFC5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387C1-34F2-4448-B693-7535524A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ED0D4-FF44-457B-91D4-91C16B3E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C087-3D4E-4A49-8DC8-A9FC0B1A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B9E86-716D-422B-95CD-BB0D132B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1A0E9-BABF-4185-AE0D-81E320D7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12880" y="609120"/>
            <a:ext cx="846288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CE8CB-BBD9-4520-9CB7-70ED2D29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5201B-84E7-4483-B6DF-61BEAEC1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14944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2EF90-9F1C-4A4C-B6C0-E4AFDC01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EDC3C-4252-446C-9186-1407A4E1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812880" y="418788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68837-BE57-431A-BE9B-ECD305F4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14944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DC6CF-D639-4207-9F60-9F4A80693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7452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53580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81288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7452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53580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E9C58-34BF-48BA-A8C1-CA9BA6879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69085-44B9-4D2D-B20C-6363D77AE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DCA3-073C-447C-828C-9001A73B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C3979-E08F-47DC-B94C-0BECA824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10B16-748D-4DFF-BA15-65CD854A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FC85E-4675-4447-8DF1-3DA4E0EB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9B421-1355-419C-B110-A1A14B56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812880" y="609120"/>
            <a:ext cx="846288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2E22C-B850-4884-8C76-13E2BA04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E3CC1-7BBE-49C8-8531-1A441D5F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14944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E98D9-575C-4E64-BEF5-7A996905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278C4-F569-4551-87B3-785C893D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812880" y="418788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60B1A-2CD8-477B-93FC-972540AC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14944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F9F3B-79E0-41B3-9B19-E946D1824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812880" y="609120"/>
            <a:ext cx="846288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57C8-9969-424C-9EA3-CEEBA74F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67452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53580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81288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67452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53580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A4578-DDE1-4E16-8569-51E747027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C9FA2-3A8D-4A8A-8FA5-DD15FFA6F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624F2-2B0B-46F4-8C63-3545B291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D5BB0-D929-4A2B-B21F-7468B047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AB8F0-7637-486E-82CE-01A901BC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1604B-A58B-4EA0-9B4F-37940A78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812880" y="609120"/>
            <a:ext cx="846288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1B413-5978-4894-881D-953635F0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DCF46-3E89-4A93-9E3B-B8139710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14944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F2EE2-4144-4139-98E5-D84F4AEB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1A436-396F-44A0-A5FB-8EBD3ED0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6B83-768C-439A-8923-7EDFD70D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812880" y="418788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B3D31-8272-42C6-8687-50565031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14944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C383C-AEC3-4298-84A8-099592EE6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67452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53580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81288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67452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53580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7F603-1180-476E-865D-C2640FF4B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A1AF9-1550-42F0-BB69-77C3B8D1A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1CD70-470A-4CFF-B43B-45CD5E71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0DE4B-7820-4854-A0C0-DCA1EAC6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0EA8D-A75F-400D-8D9F-BD1E973D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FAD86-68EB-4D65-87EC-A14D2994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812880" y="609120"/>
            <a:ext cx="846288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C5C9C-A330-4C21-A187-AA603A7A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A3F4B-F6E7-4045-BAC9-8E56AE5B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944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68DC-3C2E-46FB-ADB4-24303658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14944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2E6E1-A5F5-46F0-81B6-42C66C0E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7F9B1-F713-4578-ADD0-33C29FC0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812880" y="418788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04E2B-B14D-4AAA-B177-2F1E340C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14944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D320A-2C83-4E38-88A3-F4122EC58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67452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53580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81288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67452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53580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5A6F0-0A04-43F8-BDD5-236F82304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68F93-5780-4632-ACDB-A99A7FC4C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C99DF-C12F-46CE-BFDD-EFC901B5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EF4A8-DCC5-4C12-B79B-11B0D15E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970C7-1E16-43A6-9E6E-97E19E2C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00533-0571-4BC5-8DD9-2699D53D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6230-3FE2-491C-876D-E92D02AB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812880" y="609120"/>
            <a:ext cx="846288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76311-8047-4881-86D3-E4754FA0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0D005-11A7-4F40-998E-BBF9B03D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14944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9E865-CF34-414A-A239-AA0BCDB1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607AA-D478-411E-96AE-FEB799D0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812880" y="418788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3EBD5-4709-4513-96C9-D9D2178F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514944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BC147-EE21-4C44-A7F8-F7FC983E0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67452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53580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81288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67452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53580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10481-2DB3-4AEC-9699-BE64D7E10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11160" y="-7920"/>
            <a:ext cx="12227040" cy="6873840"/>
            <a:chOff x="-11160" y="-7920"/>
            <a:chExt cx="12227040" cy="6873840"/>
          </a:xfrm>
        </p:grpSpPr>
        <p:sp>
          <p:nvSpPr>
            <p:cNvPr id="1" name="Freeform 6"/>
            <p:cNvSpPr/>
            <p:nvPr/>
          </p:nvSpPr>
          <p:spPr>
            <a:xfrm>
              <a:off x="-11160" y="4013280"/>
              <a:ext cx="60948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6842160" y="4175280"/>
              <a:ext cx="536256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9390240" y="0"/>
              <a:ext cx="162720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9190080" y="0"/>
              <a:ext cx="302580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9607680" y="-7920"/>
              <a:ext cx="259704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8850600" y="3919680"/>
              <a:ext cx="335268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9347400" y="-7920"/>
              <a:ext cx="285732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11062080" y="-7920"/>
              <a:ext cx="114300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10769760" y="-7920"/>
              <a:ext cx="142236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10747440" y="4894200"/>
              <a:ext cx="14587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684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812520" y="6041520"/>
            <a:ext cx="6164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93200" y="6041520"/>
            <a:ext cx="682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195984-74DB-471E-9FA2-10B8C80D7EA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6"/>
          <p:cNvGrpSpPr/>
          <p:nvPr/>
        </p:nvGrpSpPr>
        <p:grpSpPr>
          <a:xfrm>
            <a:off x="-11160" y="-7920"/>
            <a:ext cx="12227040" cy="6873840"/>
            <a:chOff x="-11160" y="-7920"/>
            <a:chExt cx="12227040" cy="6873840"/>
          </a:xfrm>
        </p:grpSpPr>
        <p:sp>
          <p:nvSpPr>
            <p:cNvPr id="53" name="Freeform 6"/>
            <p:cNvSpPr/>
            <p:nvPr/>
          </p:nvSpPr>
          <p:spPr>
            <a:xfrm>
              <a:off x="-11160" y="4013280"/>
              <a:ext cx="60948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7"/>
            <p:cNvSpPr/>
            <p:nvPr/>
          </p:nvSpPr>
          <p:spPr>
            <a:xfrm flipV="1">
              <a:off x="6842160" y="4175280"/>
              <a:ext cx="536256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Straight Connector 8"/>
            <p:cNvSpPr/>
            <p:nvPr/>
          </p:nvSpPr>
          <p:spPr>
            <a:xfrm>
              <a:off x="9390240" y="0"/>
              <a:ext cx="162720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9"/>
            <p:cNvSpPr/>
            <p:nvPr/>
          </p:nvSpPr>
          <p:spPr>
            <a:xfrm>
              <a:off x="9190080" y="0"/>
              <a:ext cx="302580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9607680" y="-7920"/>
              <a:ext cx="259704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11"/>
            <p:cNvSpPr/>
            <p:nvPr/>
          </p:nvSpPr>
          <p:spPr>
            <a:xfrm>
              <a:off x="8850600" y="3919680"/>
              <a:ext cx="335268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>
              <a:off x="9347400" y="-7920"/>
              <a:ext cx="285732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>
              <a:off x="11062080" y="-7920"/>
              <a:ext cx="114300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>
              <a:off x="10769760" y="-7920"/>
              <a:ext cx="142236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>
              <a:off x="10747440" y="4894200"/>
              <a:ext cx="14587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684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812520" y="6041520"/>
            <a:ext cx="6164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93200" y="6041520"/>
            <a:ext cx="682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E573C2-02A9-4081-97FB-C90511394B5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-11160" y="-7920"/>
            <a:ext cx="12227040" cy="6873840"/>
            <a:chOff x="-11160" y="-7920"/>
            <a:chExt cx="12227040" cy="6873840"/>
          </a:xfrm>
        </p:grpSpPr>
        <p:sp>
          <p:nvSpPr>
            <p:cNvPr id="105" name="Straight Connector 16"/>
            <p:cNvSpPr/>
            <p:nvPr/>
          </p:nvSpPr>
          <p:spPr>
            <a:xfrm flipV="1">
              <a:off x="6842160" y="4175280"/>
              <a:ext cx="536256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17"/>
            <p:cNvSpPr/>
            <p:nvPr/>
          </p:nvSpPr>
          <p:spPr>
            <a:xfrm>
              <a:off x="9390240" y="0"/>
              <a:ext cx="162720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Freeform 18"/>
            <p:cNvSpPr/>
            <p:nvPr/>
          </p:nvSpPr>
          <p:spPr>
            <a:xfrm>
              <a:off x="9190080" y="0"/>
              <a:ext cx="302580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19"/>
            <p:cNvSpPr/>
            <p:nvPr/>
          </p:nvSpPr>
          <p:spPr>
            <a:xfrm>
              <a:off x="9607680" y="-7920"/>
              <a:ext cx="259704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20"/>
            <p:cNvSpPr/>
            <p:nvPr/>
          </p:nvSpPr>
          <p:spPr>
            <a:xfrm>
              <a:off x="8850600" y="3919680"/>
              <a:ext cx="335268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21"/>
            <p:cNvSpPr/>
            <p:nvPr/>
          </p:nvSpPr>
          <p:spPr>
            <a:xfrm>
              <a:off x="9347400" y="-7920"/>
              <a:ext cx="285732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22"/>
            <p:cNvSpPr/>
            <p:nvPr/>
          </p:nvSpPr>
          <p:spPr>
            <a:xfrm>
              <a:off x="11062080" y="-7920"/>
              <a:ext cx="114300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23"/>
            <p:cNvSpPr/>
            <p:nvPr/>
          </p:nvSpPr>
          <p:spPr>
            <a:xfrm>
              <a:off x="10769760" y="-7920"/>
              <a:ext cx="142236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24"/>
            <p:cNvSpPr/>
            <p:nvPr/>
          </p:nvSpPr>
          <p:spPr>
            <a:xfrm>
              <a:off x="10747440" y="4894200"/>
              <a:ext cx="14587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27"/>
            <p:cNvSpPr/>
            <p:nvPr/>
          </p:nvSpPr>
          <p:spPr>
            <a:xfrm>
              <a:off x="-11160" y="-7920"/>
              <a:ext cx="115092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720684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812520" y="6041520"/>
            <a:ext cx="6164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8593200" y="6041520"/>
            <a:ext cx="682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48E250-F577-4E2F-89E7-2BA6F52C3CC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6"/>
          <p:cNvGrpSpPr/>
          <p:nvPr/>
        </p:nvGrpSpPr>
        <p:grpSpPr>
          <a:xfrm>
            <a:off x="-11160" y="-7920"/>
            <a:ext cx="12227040" cy="6873840"/>
            <a:chOff x="-11160" y="-7920"/>
            <a:chExt cx="12227040" cy="6873840"/>
          </a:xfrm>
        </p:grpSpPr>
        <p:sp>
          <p:nvSpPr>
            <p:cNvPr id="157" name="Freeform 6"/>
            <p:cNvSpPr/>
            <p:nvPr/>
          </p:nvSpPr>
          <p:spPr>
            <a:xfrm>
              <a:off x="-11160" y="4013280"/>
              <a:ext cx="60948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8" name="Straight Connector 7"/>
            <p:cNvSpPr/>
            <p:nvPr/>
          </p:nvSpPr>
          <p:spPr>
            <a:xfrm flipV="1">
              <a:off x="6842160" y="4175280"/>
              <a:ext cx="536256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9" name="Straight Connector 8"/>
            <p:cNvSpPr/>
            <p:nvPr/>
          </p:nvSpPr>
          <p:spPr>
            <a:xfrm>
              <a:off x="9390240" y="0"/>
              <a:ext cx="162720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9190080" y="0"/>
              <a:ext cx="302580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>
              <a:off x="9607680" y="-7920"/>
              <a:ext cx="259704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11"/>
            <p:cNvSpPr/>
            <p:nvPr/>
          </p:nvSpPr>
          <p:spPr>
            <a:xfrm>
              <a:off x="8850600" y="3919680"/>
              <a:ext cx="335268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2"/>
            <p:cNvSpPr/>
            <p:nvPr/>
          </p:nvSpPr>
          <p:spPr>
            <a:xfrm>
              <a:off x="9347400" y="-7920"/>
              <a:ext cx="285732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3"/>
            <p:cNvSpPr/>
            <p:nvPr/>
          </p:nvSpPr>
          <p:spPr>
            <a:xfrm>
              <a:off x="11062080" y="-7920"/>
              <a:ext cx="114300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4"/>
            <p:cNvSpPr/>
            <p:nvPr/>
          </p:nvSpPr>
          <p:spPr>
            <a:xfrm>
              <a:off x="10769760" y="-7920"/>
              <a:ext cx="142236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5"/>
            <p:cNvSpPr/>
            <p:nvPr/>
          </p:nvSpPr>
          <p:spPr>
            <a:xfrm>
              <a:off x="10747440" y="4894200"/>
              <a:ext cx="14587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7" name="TextBox 17"/>
          <p:cNvSpPr/>
          <p:nvPr/>
        </p:nvSpPr>
        <p:spPr>
          <a:xfrm>
            <a:off x="642960" y="790560"/>
            <a:ext cx="6112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TextBox 18"/>
          <p:cNvSpPr/>
          <p:nvPr/>
        </p:nvSpPr>
        <p:spPr>
          <a:xfrm>
            <a:off x="8996400" y="288612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720684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812520" y="6041520"/>
            <a:ext cx="6164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8593200" y="6041520"/>
            <a:ext cx="682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CDB0E1-60A5-4C0B-A6A4-602DFB72F974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16"/>
          <p:cNvGrpSpPr/>
          <p:nvPr/>
        </p:nvGrpSpPr>
        <p:grpSpPr>
          <a:xfrm>
            <a:off x="-11160" y="-7920"/>
            <a:ext cx="12227040" cy="6873840"/>
            <a:chOff x="-11160" y="-7920"/>
            <a:chExt cx="12227040" cy="6873840"/>
          </a:xfrm>
        </p:grpSpPr>
        <p:sp>
          <p:nvSpPr>
            <p:cNvPr id="211" name="Freeform 6"/>
            <p:cNvSpPr/>
            <p:nvPr/>
          </p:nvSpPr>
          <p:spPr>
            <a:xfrm>
              <a:off x="-11160" y="4013280"/>
              <a:ext cx="60948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2" name="Straight Connector 7"/>
            <p:cNvSpPr/>
            <p:nvPr/>
          </p:nvSpPr>
          <p:spPr>
            <a:xfrm flipV="1">
              <a:off x="6842160" y="4175280"/>
              <a:ext cx="536256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3" name="Straight Connector 8"/>
            <p:cNvSpPr/>
            <p:nvPr/>
          </p:nvSpPr>
          <p:spPr>
            <a:xfrm>
              <a:off x="9390240" y="0"/>
              <a:ext cx="162720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4" name="Freeform 9"/>
            <p:cNvSpPr/>
            <p:nvPr/>
          </p:nvSpPr>
          <p:spPr>
            <a:xfrm>
              <a:off x="9190080" y="0"/>
              <a:ext cx="302580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5" name="Freeform 10"/>
            <p:cNvSpPr/>
            <p:nvPr/>
          </p:nvSpPr>
          <p:spPr>
            <a:xfrm>
              <a:off x="9607680" y="-7920"/>
              <a:ext cx="259704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6" name="Freeform 11"/>
            <p:cNvSpPr/>
            <p:nvPr/>
          </p:nvSpPr>
          <p:spPr>
            <a:xfrm>
              <a:off x="8850600" y="3919680"/>
              <a:ext cx="335268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7" name="Freeform 12"/>
            <p:cNvSpPr/>
            <p:nvPr/>
          </p:nvSpPr>
          <p:spPr>
            <a:xfrm>
              <a:off x="9347400" y="-7920"/>
              <a:ext cx="285732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8" name="Freeform 13"/>
            <p:cNvSpPr/>
            <p:nvPr/>
          </p:nvSpPr>
          <p:spPr>
            <a:xfrm>
              <a:off x="11062080" y="-7920"/>
              <a:ext cx="114300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9" name="Freeform 14"/>
            <p:cNvSpPr/>
            <p:nvPr/>
          </p:nvSpPr>
          <p:spPr>
            <a:xfrm>
              <a:off x="10769760" y="-7920"/>
              <a:ext cx="142236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0" name="Freeform 15"/>
            <p:cNvSpPr/>
            <p:nvPr/>
          </p:nvSpPr>
          <p:spPr>
            <a:xfrm>
              <a:off x="10747440" y="4894200"/>
              <a:ext cx="14587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21" name="TextBox 17"/>
          <p:cNvSpPr/>
          <p:nvPr/>
        </p:nvSpPr>
        <p:spPr>
          <a:xfrm>
            <a:off x="642960" y="790560"/>
            <a:ext cx="6112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TextBox 18"/>
          <p:cNvSpPr/>
          <p:nvPr/>
        </p:nvSpPr>
        <p:spPr>
          <a:xfrm>
            <a:off x="8996400" y="288612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720684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812520" y="6041520"/>
            <a:ext cx="6164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8593200" y="6041520"/>
            <a:ext cx="682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B0FB18-DEB6-4374-92DC-367889B4DF58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6"/>
          <p:cNvGrpSpPr/>
          <p:nvPr/>
        </p:nvGrpSpPr>
        <p:grpSpPr>
          <a:xfrm>
            <a:off x="-11160" y="-7920"/>
            <a:ext cx="12227040" cy="6873840"/>
            <a:chOff x="-11160" y="-7920"/>
            <a:chExt cx="12227040" cy="6873840"/>
          </a:xfrm>
        </p:grpSpPr>
        <p:sp>
          <p:nvSpPr>
            <p:cNvPr id="265" name="Straight Connector 16"/>
            <p:cNvSpPr/>
            <p:nvPr/>
          </p:nvSpPr>
          <p:spPr>
            <a:xfrm flipV="1">
              <a:off x="6842160" y="4175280"/>
              <a:ext cx="536256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6" name="Straight Connector 17"/>
            <p:cNvSpPr/>
            <p:nvPr/>
          </p:nvSpPr>
          <p:spPr>
            <a:xfrm>
              <a:off x="9390240" y="0"/>
              <a:ext cx="162720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7" name="Freeform 18"/>
            <p:cNvSpPr/>
            <p:nvPr/>
          </p:nvSpPr>
          <p:spPr>
            <a:xfrm>
              <a:off x="9190080" y="0"/>
              <a:ext cx="302580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8" name="Freeform 19"/>
            <p:cNvSpPr/>
            <p:nvPr/>
          </p:nvSpPr>
          <p:spPr>
            <a:xfrm>
              <a:off x="9607680" y="-7920"/>
              <a:ext cx="259704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9" name="Freeform 20"/>
            <p:cNvSpPr/>
            <p:nvPr/>
          </p:nvSpPr>
          <p:spPr>
            <a:xfrm>
              <a:off x="8850600" y="3919680"/>
              <a:ext cx="335268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0" name="Freeform 21"/>
            <p:cNvSpPr/>
            <p:nvPr/>
          </p:nvSpPr>
          <p:spPr>
            <a:xfrm>
              <a:off x="9347400" y="-7920"/>
              <a:ext cx="285732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1" name="Freeform 22"/>
            <p:cNvSpPr/>
            <p:nvPr/>
          </p:nvSpPr>
          <p:spPr>
            <a:xfrm>
              <a:off x="11062080" y="-7920"/>
              <a:ext cx="114300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2" name="Freeform 23"/>
            <p:cNvSpPr/>
            <p:nvPr/>
          </p:nvSpPr>
          <p:spPr>
            <a:xfrm>
              <a:off x="10769760" y="-7920"/>
              <a:ext cx="142236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3" name="Freeform 24"/>
            <p:cNvSpPr/>
            <p:nvPr/>
          </p:nvSpPr>
          <p:spPr>
            <a:xfrm>
              <a:off x="10747440" y="4894200"/>
              <a:ext cx="14587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4" name="Freeform 27"/>
            <p:cNvSpPr/>
            <p:nvPr/>
          </p:nvSpPr>
          <p:spPr>
            <a:xfrm>
              <a:off x="-11160" y="-7920"/>
              <a:ext cx="115092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720684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812520" y="6041520"/>
            <a:ext cx="6164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8593200" y="6041520"/>
            <a:ext cx="682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D1C922-FAA2-4B7B-A3A0-3B539A467E85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16"/>
          <p:cNvGrpSpPr/>
          <p:nvPr/>
        </p:nvGrpSpPr>
        <p:grpSpPr>
          <a:xfrm>
            <a:off x="-11160" y="-7920"/>
            <a:ext cx="12227040" cy="6873840"/>
            <a:chOff x="-11160" y="-7920"/>
            <a:chExt cx="12227040" cy="6873840"/>
          </a:xfrm>
        </p:grpSpPr>
        <p:sp>
          <p:nvSpPr>
            <p:cNvPr id="317" name="Freeform 6"/>
            <p:cNvSpPr/>
            <p:nvPr/>
          </p:nvSpPr>
          <p:spPr>
            <a:xfrm>
              <a:off x="-11160" y="4013280"/>
              <a:ext cx="60948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8" name="Straight Connector 7"/>
            <p:cNvSpPr/>
            <p:nvPr/>
          </p:nvSpPr>
          <p:spPr>
            <a:xfrm flipV="1">
              <a:off x="6842160" y="4175280"/>
              <a:ext cx="536256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9" name="Straight Connector 8"/>
            <p:cNvSpPr/>
            <p:nvPr/>
          </p:nvSpPr>
          <p:spPr>
            <a:xfrm>
              <a:off x="9390240" y="0"/>
              <a:ext cx="162720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0" name="Freeform 9"/>
            <p:cNvSpPr/>
            <p:nvPr/>
          </p:nvSpPr>
          <p:spPr>
            <a:xfrm>
              <a:off x="9190080" y="0"/>
              <a:ext cx="302580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1" name="Freeform 10"/>
            <p:cNvSpPr/>
            <p:nvPr/>
          </p:nvSpPr>
          <p:spPr>
            <a:xfrm>
              <a:off x="9607680" y="-7920"/>
              <a:ext cx="259704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2" name="Freeform 11"/>
            <p:cNvSpPr/>
            <p:nvPr/>
          </p:nvSpPr>
          <p:spPr>
            <a:xfrm>
              <a:off x="8850600" y="3919680"/>
              <a:ext cx="335268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3" name="Freeform 12"/>
            <p:cNvSpPr/>
            <p:nvPr/>
          </p:nvSpPr>
          <p:spPr>
            <a:xfrm>
              <a:off x="9347400" y="-7920"/>
              <a:ext cx="285732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4" name="Freeform 13"/>
            <p:cNvSpPr/>
            <p:nvPr/>
          </p:nvSpPr>
          <p:spPr>
            <a:xfrm>
              <a:off x="11062080" y="-7920"/>
              <a:ext cx="114300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5" name="Freeform 14"/>
            <p:cNvSpPr/>
            <p:nvPr/>
          </p:nvSpPr>
          <p:spPr>
            <a:xfrm>
              <a:off x="10769760" y="-7920"/>
              <a:ext cx="142236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6" name="Freeform 15"/>
            <p:cNvSpPr/>
            <p:nvPr/>
          </p:nvSpPr>
          <p:spPr>
            <a:xfrm>
              <a:off x="10747440" y="4894200"/>
              <a:ext cx="14587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27" name="TextBox 17"/>
          <p:cNvSpPr/>
          <p:nvPr/>
        </p:nvSpPr>
        <p:spPr>
          <a:xfrm>
            <a:off x="642960" y="790560"/>
            <a:ext cx="6112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TextBox 18"/>
          <p:cNvSpPr/>
          <p:nvPr/>
        </p:nvSpPr>
        <p:spPr>
          <a:xfrm>
            <a:off x="8996400" y="288612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9"/>
          </p:nvPr>
        </p:nvSpPr>
        <p:spPr>
          <a:xfrm>
            <a:off x="720684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0"/>
          </p:nvPr>
        </p:nvSpPr>
        <p:spPr>
          <a:xfrm>
            <a:off x="812520" y="6041520"/>
            <a:ext cx="6164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1"/>
          </p:nvPr>
        </p:nvSpPr>
        <p:spPr>
          <a:xfrm>
            <a:off x="8593200" y="6041520"/>
            <a:ext cx="682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EB155A-0A3F-4CBF-81E4-0536A3036906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Group 16"/>
          <p:cNvGrpSpPr/>
          <p:nvPr/>
        </p:nvGrpSpPr>
        <p:grpSpPr>
          <a:xfrm>
            <a:off x="-11160" y="-7920"/>
            <a:ext cx="12227040" cy="6873840"/>
            <a:chOff x="-11160" y="-7920"/>
            <a:chExt cx="12227040" cy="6873840"/>
          </a:xfrm>
        </p:grpSpPr>
        <p:sp>
          <p:nvSpPr>
            <p:cNvPr id="371" name="Freeform 6"/>
            <p:cNvSpPr/>
            <p:nvPr/>
          </p:nvSpPr>
          <p:spPr>
            <a:xfrm>
              <a:off x="-11160" y="4013280"/>
              <a:ext cx="60948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2" name="Straight Connector 7"/>
            <p:cNvSpPr/>
            <p:nvPr/>
          </p:nvSpPr>
          <p:spPr>
            <a:xfrm flipV="1">
              <a:off x="6842160" y="4175280"/>
              <a:ext cx="536256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3" name="Straight Connector 8"/>
            <p:cNvSpPr/>
            <p:nvPr/>
          </p:nvSpPr>
          <p:spPr>
            <a:xfrm>
              <a:off x="9390240" y="0"/>
              <a:ext cx="162720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4" name="Freeform 9"/>
            <p:cNvSpPr/>
            <p:nvPr/>
          </p:nvSpPr>
          <p:spPr>
            <a:xfrm>
              <a:off x="9190080" y="0"/>
              <a:ext cx="302580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5" name="Freeform 10"/>
            <p:cNvSpPr/>
            <p:nvPr/>
          </p:nvSpPr>
          <p:spPr>
            <a:xfrm>
              <a:off x="9607680" y="-7920"/>
              <a:ext cx="259704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6" name="Freeform 11"/>
            <p:cNvSpPr/>
            <p:nvPr/>
          </p:nvSpPr>
          <p:spPr>
            <a:xfrm>
              <a:off x="8850600" y="3919680"/>
              <a:ext cx="335268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7" name="Freeform 12"/>
            <p:cNvSpPr/>
            <p:nvPr/>
          </p:nvSpPr>
          <p:spPr>
            <a:xfrm>
              <a:off x="9347400" y="-7920"/>
              <a:ext cx="285732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8" name="Freeform 13"/>
            <p:cNvSpPr/>
            <p:nvPr/>
          </p:nvSpPr>
          <p:spPr>
            <a:xfrm>
              <a:off x="11062080" y="-7920"/>
              <a:ext cx="114300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9" name="Freeform 14"/>
            <p:cNvSpPr/>
            <p:nvPr/>
          </p:nvSpPr>
          <p:spPr>
            <a:xfrm>
              <a:off x="10769760" y="-7920"/>
              <a:ext cx="142236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0" name="Freeform 15"/>
            <p:cNvSpPr/>
            <p:nvPr/>
          </p:nvSpPr>
          <p:spPr>
            <a:xfrm>
              <a:off x="10747440" y="4894200"/>
              <a:ext cx="14587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81" name="TextBox 17"/>
          <p:cNvSpPr/>
          <p:nvPr/>
        </p:nvSpPr>
        <p:spPr>
          <a:xfrm>
            <a:off x="642960" y="790560"/>
            <a:ext cx="6112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2" name="TextBox 18"/>
          <p:cNvSpPr/>
          <p:nvPr/>
        </p:nvSpPr>
        <p:spPr>
          <a:xfrm>
            <a:off x="8996400" y="288612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2"/>
          </p:nvPr>
        </p:nvSpPr>
        <p:spPr>
          <a:xfrm>
            <a:off x="720684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3"/>
          </p:nvPr>
        </p:nvSpPr>
        <p:spPr>
          <a:xfrm>
            <a:off x="812520" y="6041520"/>
            <a:ext cx="6164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4"/>
          </p:nvPr>
        </p:nvSpPr>
        <p:spPr>
          <a:xfrm>
            <a:off x="8593200" y="6041520"/>
            <a:ext cx="682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244F04-A001-4935-8D6D-9C2718AEF936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docs.cntd.ru/document/1301308270#7EC0KH" TargetMode="External"/><Relationship Id="rId2" Type="http://schemas.openxmlformats.org/officeDocument/2006/relationships/hyperlink" Target="https://docs.cntd.ru/document/1301308270#7EG0KJ" TargetMode="External"/><Relationship Id="rId3" Type="http://schemas.openxmlformats.org/officeDocument/2006/relationships/hyperlink" Target="https://docs.cntd.ru/document/1301308270#7E20KB" TargetMode="External"/><Relationship Id="rId4" Type="http://schemas.openxmlformats.org/officeDocument/2006/relationships/hyperlink" Target="https://docs.cntd.ru/document/1301308270#7E20KB" TargetMode="External"/><Relationship Id="rId5" Type="http://schemas.openxmlformats.org/officeDocument/2006/relationships/hyperlink" Target="https://docs.cntd.ru/document/1301308270#7E20KB" TargetMode="Externa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-360" y="236520"/>
            <a:ext cx="1219212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3f7819"/>
                </a:solidFill>
                <a:latin typeface="Arial Narrow"/>
              </a:rPr>
              <a:t>Рекомендации для тех, кто аттестуется</a:t>
            </a:r>
            <a:br>
              <a:rPr sz="5400"/>
            </a:br>
            <a:r>
              <a:rPr b="1" lang="ru-RU" sz="5400" spc="-1" strike="noStrike">
                <a:solidFill>
                  <a:srgbClr val="3f7819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3f7819"/>
                </a:solidFill>
                <a:latin typeface="Arial Narrow"/>
              </a:rPr>
              <a:t>/</a:t>
            </a:r>
            <a:r>
              <a:rPr b="1" lang="ru-RU" sz="3200" spc="-1" strike="noStrike">
                <a:solidFill>
                  <a:srgbClr val="3f7819"/>
                </a:solidFill>
                <a:latin typeface="Arial Narrow"/>
              </a:rPr>
              <a:t>информационные материалы по вопросам аттестации/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515880" y="4848120"/>
            <a:ext cx="11545920" cy="23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3f7819"/>
                </a:solidFill>
                <a:latin typeface="Arial Narrow"/>
              </a:rPr>
              <a:t>Вотякова Ирина Александровна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3f7819"/>
                </a:solidFill>
                <a:latin typeface="Arial Narrow"/>
              </a:rPr>
              <a:t>Методист  технического отдела аттестации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3f7819"/>
                </a:solidFill>
                <a:latin typeface="Arial Narrow"/>
              </a:rPr>
              <a:t>педагогических кадров ГАУ ДПО НСО НИПКиПРО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26" name="Рисунок 1" descr=""/>
          <p:cNvPicPr/>
          <p:nvPr/>
        </p:nvPicPr>
        <p:blipFill>
          <a:blip r:embed="rId1"/>
          <a:stretch/>
        </p:blipFill>
        <p:spPr>
          <a:xfrm>
            <a:off x="515880" y="2133720"/>
            <a:ext cx="665496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800" y="0"/>
            <a:ext cx="12099960" cy="17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.5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валификационная категория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"педагог-методист"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авливается педагогическим работникам на основе следующих показателей деятельности, не входящей в должностные обязанности по занимаемой в организации должности: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202680" y="1874520"/>
            <a:ext cx="1240164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уководства методическим объединением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х работников образовательной организации и активного участия в методической работе образовательной организаци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уководства разработкой программно-методического сопровождени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ого процесса, в том числе методического сопровождения реализации инновационных образовательных программ и проектов в образовательной организаци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ической поддержки педагогических работнико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ой организации при подготовке к участию в профессиональных конкурсах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астия в методической поддержке (сопровождении) педагогических работнико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ой организации, направленной на их профессиональное развитие, преодоление профессиональных дефицитов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едачи опыт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именению в образовательной организации авторских учебных и (или) учебно-методических разработок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.35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800" y="150840"/>
            <a:ext cx="12099960" cy="16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.51.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фикационная категория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"педагог-наставник"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авливается педагогическим работникам на основе следующих показателей деятельности, не входящей в должностные обязанности по занимаемой в организации должности: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203040" y="2141640"/>
            <a:ext cx="116841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 руководства практической подготовкой студентов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хся по образовательным программам среднего профессионального образования и (или) образовательным программам высшего образования;                                                                                                                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 наставничества в отношении педагогических работнико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ой организации, активного сопровождения их профессионального развития в образовательной организации;                содействия в подготовке педагогических работников, в том числе из числа молодых специалистов, к участию в конкурсах профессионального (педагогического) мастерства;                     - -     --распространения авторских подходов и методических разработок в области наставнической деятельности в образовательной организации.                                                                                          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Box 2"/>
          <p:cNvSpPr/>
          <p:nvPr/>
        </p:nvSpPr>
        <p:spPr>
          <a:xfrm>
            <a:off x="614520" y="531720"/>
            <a:ext cx="10734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П.52. Оценка деятельности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дагогических работников в целях установления квалификационных категорий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"педагог-методист" и "педагог-наставник"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уществляется аттестационной комиссией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на основе ходатайства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одателя, предусмотренного </a:t>
            </a:r>
            <a:r>
              <a:rPr b="0" lang="ru-RU" sz="3600" spc="-1" strike="noStrike" u="sng">
                <a:solidFill>
                  <a:srgbClr val="99ca3c"/>
                </a:solidFill>
                <a:uFillTx/>
                <a:latin typeface="Times New Roman"/>
                <a:ea typeface="Calibri"/>
                <a:hlinkClick r:id="rId1"/>
              </a:rPr>
              <a:t>п. 48  Порядка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,  а также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показателей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, предусмотренных      </a:t>
            </a:r>
            <a:r>
              <a:rPr b="0" lang="ru-RU" sz="3600" spc="-1" strike="noStrike" u="sng">
                <a:solidFill>
                  <a:srgbClr val="99ca3c"/>
                </a:solidFill>
                <a:uFillTx/>
                <a:latin typeface="Times New Roman"/>
                <a:ea typeface="Calibri"/>
                <a:hlinkClick r:id="rId2"/>
              </a:rPr>
              <a:t>п. 50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 и </a:t>
            </a:r>
            <a:r>
              <a:rPr b="0" lang="ru-RU" sz="3600" spc="-1" strike="noStrike" u="sng">
                <a:solidFill>
                  <a:srgbClr val="99ca3c"/>
                </a:solidFill>
                <a:uFillTx/>
                <a:latin typeface="Times New Roman"/>
                <a:ea typeface="Calibri"/>
                <a:hlinkClick r:id="rId3"/>
              </a:rPr>
              <a:t>51</a:t>
            </a:r>
            <a:r>
              <a:rPr b="0" lang="ru-RU" sz="3600" spc="-1" strike="noStrike" u="sng">
                <a:solidFill>
                  <a:srgbClr val="99ca3c"/>
                </a:solidFill>
                <a:uFillTx/>
                <a:latin typeface="Times New Roman"/>
                <a:ea typeface="Calibri"/>
                <a:hlinkClick r:id="rId4"/>
              </a:rPr>
              <a:t> </a:t>
            </a:r>
            <a:r>
              <a:rPr b="0" lang="ru-RU" sz="3600" spc="-1" strike="noStrike" u="sng">
                <a:solidFill>
                  <a:srgbClr val="99ca3c"/>
                </a:solidFill>
                <a:uFillTx/>
                <a:latin typeface="Times New Roman"/>
                <a:ea typeface="Calibri"/>
                <a:hlinkClick r:id="rId5"/>
              </a:rPr>
              <a:t>Порядка</a:t>
            </a:r>
            <a:r>
              <a:rPr b="1" lang="ru-RU" sz="36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79600" y="-360"/>
            <a:ext cx="10779120" cy="74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86113"/>
                </a:solidFill>
                <a:latin typeface="Arial"/>
                <a:ea typeface="Arial"/>
              </a:rPr>
              <a:t>Проведите объективную самооценку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459" name="Объект 3" descr=""/>
          <p:cNvPicPr/>
          <p:nvPr/>
        </p:nvPicPr>
        <p:blipFill>
          <a:blip r:embed="rId1"/>
          <a:stretch/>
        </p:blipFill>
        <p:spPr>
          <a:xfrm>
            <a:off x="-6480" y="701640"/>
            <a:ext cx="12125520" cy="5954760"/>
          </a:xfrm>
          <a:prstGeom prst="rect">
            <a:avLst/>
          </a:prstGeom>
          <a:ln w="0">
            <a:noFill/>
          </a:ln>
        </p:spPr>
      </p:pic>
      <p:sp>
        <p:nvSpPr>
          <p:cNvPr id="460" name="Стрелка: вниз 2"/>
          <p:cNvSpPr/>
          <p:nvPr/>
        </p:nvSpPr>
        <p:spPr>
          <a:xfrm>
            <a:off x="10769760" y="6018120"/>
            <a:ext cx="588960" cy="70812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90c226"/>
          </a:solidFill>
          <a:ln cap="rnd" w="19080">
            <a:solidFill>
              <a:srgbClr val="3a5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1" name=""/>
          <p:cNvGraphicFramePr/>
          <p:nvPr/>
        </p:nvGraphicFramePr>
        <p:xfrm>
          <a:off x="355680" y="93600"/>
          <a:ext cx="11701440" cy="6521400"/>
        </p:xfrm>
        <a:graphic>
          <a:graphicData uri="http://schemas.openxmlformats.org/drawingml/2006/table">
            <a:tbl>
              <a:tblPr/>
              <a:tblGrid>
                <a:gridCol w="11701440"/>
              </a:tblGrid>
              <a:tr h="11178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ите актуальный период для систематизации документов и подготовки к аттестаци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bf4ca"/>
                    </a:solidFill>
                  </a:tcPr>
                </a:tc>
              </a:tr>
              <a:tr h="5403600"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11000"/>
                        </a:lnSpc>
                        <a:spcBef>
                          <a:spcPts val="1001"/>
                        </a:spcBef>
                        <a:spcAft>
                          <a:spcPts val="62"/>
                        </a:spcAft>
                        <a:buClr>
                          <a:srgbClr val="90c226"/>
                        </a:buClr>
                        <a:buSzPct val="80000"/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ьте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лан комплексных мероприятий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учетом ваших потребностей и возможностей,  в котором рекомендуем отразить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343080" indent="-343080" algn="just">
                        <a:lnSpc>
                          <a:spcPct val="111000"/>
                        </a:lnSpc>
                        <a:spcBef>
                          <a:spcPts val="1001"/>
                        </a:spcBef>
                        <a:buClr>
                          <a:srgbClr val="90c226"/>
                        </a:buClr>
                        <a:buSzPct val="80000"/>
                        <a:buFont typeface="Wingdings 3" charset="2"/>
                        <a:buChar char="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цель профессионального развития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343080" indent="-343080" algn="just">
                        <a:lnSpc>
                          <a:spcPct val="111000"/>
                        </a:lnSpc>
                        <a:spcBef>
                          <a:spcPts val="1001"/>
                        </a:spcBef>
                        <a:buClr>
                          <a:srgbClr val="90c226"/>
                        </a:buClr>
                        <a:buSzPct val="80000"/>
                        <a:buFont typeface="Wingdings 3" charset="2"/>
                        <a:buChar char="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работа над методической темой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343080" indent="-343080" algn="just">
                        <a:lnSpc>
                          <a:spcPct val="111000"/>
                        </a:lnSpc>
                        <a:spcBef>
                          <a:spcPts val="1001"/>
                        </a:spcBef>
                        <a:spcAft>
                          <a:spcPts val="62"/>
                        </a:spcAft>
                        <a:buClr>
                          <a:srgbClr val="90c226"/>
                        </a:buClr>
                        <a:buSzPct val="80000"/>
                        <a:buFont typeface="Wingdings 3" charset="2"/>
                        <a:buChar char="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разработка методических материалов; обобщение опыта работы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343080" indent="-343080" algn="just">
                        <a:lnSpc>
                          <a:spcPct val="111000"/>
                        </a:lnSpc>
                        <a:spcBef>
                          <a:spcPts val="1001"/>
                        </a:spcBef>
                        <a:spcAft>
                          <a:spcPts val="62"/>
                        </a:spcAft>
                        <a:buClr>
                          <a:srgbClr val="90c226"/>
                        </a:buClr>
                        <a:buSzPct val="80000"/>
                        <a:buFont typeface="Wingdings 3" charset="2"/>
                        <a:buChar char="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вышение квалификации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343080" indent="-343080" algn="just">
                        <a:lnSpc>
                          <a:spcPct val="111000"/>
                        </a:lnSpc>
                        <a:spcBef>
                          <a:spcPts val="1001"/>
                        </a:spcBef>
                        <a:spcAft>
                          <a:spcPts val="62"/>
                        </a:spcAft>
                        <a:buClr>
                          <a:srgbClr val="90c226"/>
                        </a:buClr>
                        <a:buSzPct val="80000"/>
                        <a:buFont typeface="Wingdings 3" charset="2"/>
                        <a:buChar char="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рганизация  инновационной и экспериментальной деятельности и т.д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343080" indent="-343080" algn="just">
                        <a:lnSpc>
                          <a:spcPct val="111000"/>
                        </a:lnSpc>
                        <a:spcBef>
                          <a:spcPts val="1001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ждый педагог выбирает свой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ндивидуальный маршрут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овершенствованию выявленных профессиональных потребностей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 учетом уровня своих притяз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2" name=""/>
          <p:cNvGraphicFramePr/>
          <p:nvPr/>
        </p:nvGraphicFramePr>
        <p:xfrm>
          <a:off x="127080" y="223920"/>
          <a:ext cx="11853720" cy="7119720"/>
        </p:xfrm>
        <a:graphic>
          <a:graphicData uri="http://schemas.openxmlformats.org/drawingml/2006/table">
            <a:tbl>
              <a:tblPr/>
              <a:tblGrid>
                <a:gridCol w="11853720"/>
              </a:tblGrid>
              <a:tr h="83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Напоминаем, что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5652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90c226"/>
                        </a:buClr>
                        <a:buSzPct val="80000"/>
                        <a:buFont typeface="Wingdings 3" charset="2"/>
                        <a:buChar char="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квалификационные категории,  </a:t>
                      </a: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MS Mincho"/>
                        </a:rPr>
                        <a:t>установленны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MS Mincho"/>
                        </a:rPr>
                        <a:t>до  вступления в силу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Приказа № 196 от   24.03.2023, </a:t>
                      </a: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MS Mincho"/>
                        </a:rPr>
                        <a:t>сохраняются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в  </a:t>
                      </a: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MS Mincho"/>
                        </a:rPr>
                        <a:t>течение срока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, </a:t>
                      </a: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MS Mincho"/>
                        </a:rPr>
                        <a:t>на который они были установлены.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2 Приказа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 избежание дополнительных запросов об аттестуемом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комендуетс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положить в пакет документов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умент (копия документ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тверждающий итоги предыдущей аттестации (если получатель услуг был ранее аттестован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умент (копия документа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тверждающий назначение на должность, по которой аттестуется получатель услу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кумент об образовани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Схема 3" descr=""/>
          <p:cNvPicPr/>
          <p:nvPr/>
        </p:nvPicPr>
        <p:blipFill>
          <a:blip r:embed="rId1"/>
          <a:stretch/>
        </p:blipFill>
        <p:spPr>
          <a:xfrm>
            <a:off x="165240" y="96840"/>
            <a:ext cx="11831400" cy="1103400"/>
          </a:xfrm>
          <a:prstGeom prst="rect">
            <a:avLst/>
          </a:prstGeom>
          <a:ln w="0">
            <a:noFill/>
          </a:ln>
        </p:spPr>
      </p:pic>
      <p:pic>
        <p:nvPicPr>
          <p:cNvPr id="464" name="Содержимое 2" descr=""/>
          <p:cNvPicPr/>
          <p:nvPr/>
        </p:nvPicPr>
        <p:blipFill>
          <a:blip r:embed="rId2"/>
          <a:stretch/>
        </p:blipFill>
        <p:spPr>
          <a:xfrm>
            <a:off x="30240" y="1109520"/>
            <a:ext cx="12198240" cy="57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Box 3"/>
          <p:cNvSpPr/>
          <p:nvPr/>
        </p:nvSpPr>
        <p:spPr>
          <a:xfrm>
            <a:off x="316080" y="-212760"/>
            <a:ext cx="11559960" cy="679248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ите  решение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в какой форм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будете подавать заявлени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1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непосредственная подач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 аттестационную комиссию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1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 направление заявления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по почтовому адресу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миссии (с уведомлением о вручении)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11000"/>
              </a:lnSpc>
              <a:spcBef>
                <a:spcPts val="1001"/>
              </a:spcBef>
              <a:spcAft>
                <a:spcPts val="62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 направление в форме электронного документа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через автоматизированную информационную систему (АИС)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работы в электронной системе по аттестации нужно зайти по ссылке http://att.edu54.ru Обязательно проконтролируйте зарегистрировано ли ваше заявление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11000"/>
              </a:lnSpc>
              <a:spcBef>
                <a:spcPts val="1001"/>
              </a:spcBef>
              <a:spcAft>
                <a:spcPts val="62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д подачей заявления 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через АИС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язательно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убедитесь, чт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 Вас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есть курирующий методист.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нет - Ваше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заявление пропадет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Схема 3" descr=""/>
          <p:cNvPicPr/>
          <p:nvPr/>
        </p:nvPicPr>
        <p:blipFill>
          <a:blip r:embed="rId1"/>
          <a:stretch/>
        </p:blipFill>
        <p:spPr>
          <a:xfrm>
            <a:off x="298440" y="298440"/>
            <a:ext cx="11565000" cy="76824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 txBox="1"/>
          <p:nvPr/>
        </p:nvSpPr>
        <p:spPr>
          <a:xfrm>
            <a:off x="588960" y="1056960"/>
            <a:ext cx="11268000" cy="5800680"/>
          </a:xfrm>
          <a:prstGeom prst="rect">
            <a:avLst/>
          </a:prstGeom>
          <a:noFill/>
          <a:ln cap="rnd" w="12600">
            <a:solidFill>
              <a:srgbClr val="e6b91e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101000"/>
              </a:lnSpc>
              <a:spcBef>
                <a:spcPts val="1001"/>
              </a:spcBef>
              <a:spcAft>
                <a:spcPts val="62"/>
              </a:spcAft>
              <a:buClr>
                <a:srgbClr val="90c226"/>
              </a:buClr>
              <a:buSzPct val="80000"/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проверьте правильность заполнения  сведений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фамилия, имя, отчеств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если есть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должнос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правильное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наименование организаци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которой работаете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определитесь с выбором предметной группы, если подаете через АИС: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внимательно выбирайте предметную облас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особенно сфера культуры, ДОП, ДОУ,  коррекция, физкультура и ОБЖ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используйте возможности индивидуальных консультаци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методист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п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содержательному наполнению заявлен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 приложения к нему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если желаете присутствовать на заседании АК, отметьте это в заявлени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spcAft>
                <a:spcPts val="62"/>
              </a:spcAft>
              <a:buClr>
                <a:srgbClr val="90c226"/>
              </a:buClr>
              <a:buSzPct val="80000"/>
              <a:buFont typeface="Trebuchet MS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Схема 3" descr=""/>
          <p:cNvPicPr/>
          <p:nvPr/>
        </p:nvPicPr>
        <p:blipFill>
          <a:blip r:embed="rId1"/>
          <a:stretch/>
        </p:blipFill>
        <p:spPr>
          <a:xfrm>
            <a:off x="165240" y="85680"/>
            <a:ext cx="12166560" cy="110988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161640" y="1260000"/>
            <a:ext cx="12030120" cy="5597640"/>
          </a:xfrm>
          <a:prstGeom prst="rect">
            <a:avLst/>
          </a:prstGeom>
          <a:noFill/>
          <a:ln cap="rnd" w="12600">
            <a:solidFill>
              <a:srgbClr val="e6b91e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101000"/>
              </a:lnSpc>
              <a:spcBef>
                <a:spcPts val="1001"/>
              </a:spcBef>
              <a:spcAft>
                <a:spcPts val="62"/>
              </a:spcAft>
              <a:buClr>
                <a:srgbClr val="90c226"/>
              </a:buClr>
              <a:buSzPct val="80000"/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проверьте правильность подачи документов: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предоставляете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структурированную и систематизированную информацию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о профессиональной деятельности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внимательно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изучите инструкцию и алгоритм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подаете документы через АИС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прикрепляемые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файлы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, должны быть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в формате pdf, jpeg, png, не больше 5 мб. 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вложите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в пакет (подгрузить скан, если через АИС)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документ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копия документа),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подтверждающий назначение на должность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, по которой проходите аттестацию и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документ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(копия документа), подтверждающий итоги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предыдущей аттестаци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если подаете на высшую КК);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документ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об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образовании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(п.28.Порядок аттестации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не забудьте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заверить документы работодателем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в установленном порядке, предусмотренном законодательством.  (п.41 Регламента)             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spcAft>
                <a:spcPts val="62"/>
              </a:spcAft>
              <a:buClr>
                <a:srgbClr val="90c226"/>
              </a:buClr>
              <a:buSzPct val="80000"/>
              <a:buFont typeface="Trebuchet MS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22120" y="220680"/>
            <a:ext cx="11731680" cy="110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2a5010"/>
                </a:solidFill>
                <a:latin typeface="Arial"/>
                <a:ea typeface="Arial"/>
              </a:rPr>
              <a:t>нормативные документы по вопросам аттестации 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-132120" y="984240"/>
            <a:ext cx="12574440" cy="770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0070c0"/>
                </a:solidFill>
                <a:latin typeface="Trebuchet MS"/>
              </a:rPr>
              <a:t>-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 Федеральны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 29.12.2012 № 273-ФЗ «Об образовании в Российской Федерации»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            </a:t>
            </a:r>
            <a:r>
              <a:rPr b="1" lang="ru-RU" sz="2800" spc="-1" strike="noStrike">
                <a:solidFill>
                  <a:srgbClr val="932313"/>
                </a:solidFill>
                <a:latin typeface="Times New Roman"/>
                <a:ea typeface="Calibri"/>
              </a:rPr>
              <a:t>Документы прямого действия  обязательны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изучения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932313"/>
                </a:solidFill>
                <a:latin typeface="Arial"/>
                <a:ea typeface="Arial"/>
              </a:rPr>
              <a:t>-</a:t>
            </a:r>
            <a:r>
              <a:rPr b="1" lang="ru-RU" sz="28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932313"/>
                </a:solidFill>
                <a:latin typeface="Times New Roman"/>
                <a:ea typeface="Times New Roman"/>
              </a:rPr>
              <a:t>Приказ  </a:t>
            </a:r>
            <a:r>
              <a:rPr b="1" lang="ru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Министерства просвещения РФ от 24.03.2023 № 196 </a:t>
            </a:r>
            <a:r>
              <a:rPr b="0" lang="ru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«</a:t>
            </a:r>
            <a:r>
              <a:rPr b="1" lang="ru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Об утверждении Порядка</a:t>
            </a:r>
            <a:r>
              <a:rPr b="0" lang="ru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проведения аттестации</a:t>
            </a:r>
            <a:r>
              <a:rPr b="0" lang="ru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педагогических работников организаций, осуществляющих образовательную деятельность»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932313"/>
                </a:solidFill>
                <a:latin typeface="Arial"/>
                <a:ea typeface="Arial"/>
              </a:rPr>
              <a:t>- </a:t>
            </a:r>
            <a:r>
              <a:rPr b="1" lang="ru-RU" sz="2400" spc="-1" strike="noStrike">
                <a:solidFill>
                  <a:srgbClr val="932313"/>
                </a:solidFill>
                <a:latin typeface="Times New Roman"/>
                <a:ea typeface="Times New Roman"/>
              </a:rPr>
              <a:t>ОТВЕТЫ</a:t>
            </a:r>
            <a:r>
              <a:rPr b="1" i="1" lang="ru-RU" sz="2800" spc="-1" strike="noStrike">
                <a:solidFill>
                  <a:srgbClr val="932313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Департамента     подготовки профессионального развития и социального обеспечения педагогических работников  Министерства просвещения РФ  и Профсоюза работников народного образования и науки РФ по применению Порядка аттестации от 24 марта 2023 г. № 196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32313"/>
                </a:solidFill>
                <a:latin typeface="Times New Roman"/>
                <a:ea typeface="Times New Roman"/>
              </a:rPr>
              <a:t>- Регламент  </a:t>
            </a:r>
            <a:r>
              <a:rPr b="1" lang="ru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(в ред. приказа министерства образования Новосибирской области от 04.10.2023 № 2180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0" name=""/>
          <p:cNvGraphicFramePr/>
          <p:nvPr/>
        </p:nvGraphicFramePr>
        <p:xfrm>
          <a:off x="701640" y="189000"/>
          <a:ext cx="10007640" cy="7121520"/>
        </p:xfrm>
        <a:graphic>
          <a:graphicData uri="http://schemas.openxmlformats.org/drawingml/2006/table">
            <a:tbl>
              <a:tblPr/>
              <a:tblGrid>
                <a:gridCol w="1000764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НА ЗАМЕТКУ!      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Напоминаем порядок заверения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90c226"/>
                        </a:buClr>
                        <a:buSzPct val="80000"/>
                        <a:buFont typeface="Wingdings 3" charset="2"/>
                        <a:buChar char="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 заверительная надпись «Верно»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 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 должность лица, заверившего документы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 подпись заверившего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расшифровка подписи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ата заверения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печать организации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Схема 3" descr=""/>
          <p:cNvPicPr/>
          <p:nvPr/>
        </p:nvPicPr>
        <p:blipFill>
          <a:blip r:embed="rId1"/>
          <a:stretch/>
        </p:blipFill>
        <p:spPr>
          <a:xfrm>
            <a:off x="298440" y="60480"/>
            <a:ext cx="11734920" cy="186516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 txBox="1"/>
          <p:nvPr/>
        </p:nvSpPr>
        <p:spPr>
          <a:xfrm>
            <a:off x="588960" y="2671920"/>
            <a:ext cx="11268000" cy="4186080"/>
          </a:xfrm>
          <a:prstGeom prst="rect">
            <a:avLst/>
          </a:prstGeom>
          <a:noFill/>
          <a:ln cap="rnd" w="12600">
            <a:solidFill>
              <a:srgbClr val="e6b91e"/>
            </a:solidFill>
            <a:miter/>
          </a:ln>
        </p:spPr>
        <p:txBody>
          <a:bodyPr anchor="t">
            <a:normAutofit/>
          </a:bodyPr>
          <a:p>
            <a:pPr marL="457200" algn="just">
              <a:lnSpc>
                <a:spcPct val="111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едагогические работники на более высокую или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57200" algn="just">
              <a:lnSpc>
                <a:spcPct val="111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ту же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57200" algn="just">
              <a:lnSpc>
                <a:spcPct val="11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  предоставьте сведения, подтверждающие наличие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наград, званий, знаков отличия, сведений о награждениях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за участие в профессиональных конкурсах, которые получены в течение пяти лет предшествующих аттестации;               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57200" algn="just">
              <a:lnSpc>
                <a:spcPct val="111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57200" algn="just">
              <a:lnSpc>
                <a:spcPct val="111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57200" algn="just">
              <a:lnSpc>
                <a:spcPct val="111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57200" algn="just">
              <a:lnSpc>
                <a:spcPct val="11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57200" algn="just">
              <a:lnSpc>
                <a:spcPct val="111000"/>
              </a:lnSpc>
              <a:spcBef>
                <a:spcPts val="1001"/>
              </a:spcBef>
              <a:spcAft>
                <a:spcPts val="62"/>
              </a:spcAft>
              <a:buClr>
                <a:srgbClr val="90c226"/>
              </a:buClr>
              <a:buSzPct val="80000"/>
              <a:buFont typeface="Trebuchet MS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73" name="Рисунок 1" descr=""/>
          <p:cNvPicPr/>
          <p:nvPr/>
        </p:nvPicPr>
        <p:blipFill>
          <a:blip r:embed="rId2"/>
          <a:stretch/>
        </p:blipFill>
        <p:spPr>
          <a:xfrm>
            <a:off x="5402160" y="1905120"/>
            <a:ext cx="820800" cy="690480"/>
          </a:xfrm>
          <a:prstGeom prst="rect">
            <a:avLst/>
          </a:prstGeom>
          <a:ln w="0">
            <a:noFill/>
          </a:ln>
        </p:spPr>
      </p:pic>
      <p:pic>
        <p:nvPicPr>
          <p:cNvPr id="474" name="Рисунок 4" descr=""/>
          <p:cNvPicPr/>
          <p:nvPr/>
        </p:nvPicPr>
        <p:blipFill>
          <a:blip r:embed="rId3"/>
          <a:stretch/>
        </p:blipFill>
        <p:spPr>
          <a:xfrm>
            <a:off x="9053640" y="6227640"/>
            <a:ext cx="8348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Box 3"/>
          <p:cNvSpPr/>
          <p:nvPr/>
        </p:nvSpPr>
        <p:spPr>
          <a:xfrm>
            <a:off x="284040" y="0"/>
            <a:ext cx="11561760" cy="67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1000"/>
              </a:lnSpc>
              <a:spcBef>
                <a:spcPts val="1001"/>
              </a:spcBef>
              <a:spcAft>
                <a:spcPts val="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а)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лучили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государственные награды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филю педагогической деятельности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четные зв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, начинающиеся со слов «Народный», «Заслуженный»;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ведомственны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наки отлич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: «Отличник народного просвещения», «Отличник профессионально-технического образования», «Почетный работник общего образования Российской Федерации»; другие почетные звания и ведомственные знаки отличия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граждены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ведомственным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агрудными знака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(«За заслуги в образовании», «За вклад в Российскую культуру» и др.), медалью К.Д. Ушинского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11000"/>
              </a:lnSpc>
              <a:spcBef>
                <a:spcPts val="1001"/>
              </a:spcBef>
              <a:spcAft>
                <a:spcPts val="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четной грамотой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езидента Российской Федераци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11000"/>
              </a:lnSpc>
              <a:spcBef>
                <a:spcPts val="1001"/>
              </a:spcBef>
              <a:spcAft>
                <a:spcPts val="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 Благодарностью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езидента Российской Федераци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11000"/>
              </a:lnSpc>
              <a:spcBef>
                <a:spcPts val="1001"/>
              </a:spcBef>
              <a:spcAft>
                <a:spcPts val="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  Почетными грамотами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Российской Федера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11000"/>
              </a:lnSpc>
              <a:spcBef>
                <a:spcPts val="1001"/>
              </a:spcBef>
              <a:spcAft>
                <a:spcPts val="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б)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ли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победителями конкурсо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рамках реализации приоритетног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ционального проекта «Образование»;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76" name="Рисунок 1" descr=""/>
          <p:cNvPicPr/>
          <p:nvPr/>
        </p:nvPicPr>
        <p:blipFill>
          <a:blip r:embed="rId1"/>
          <a:stretch/>
        </p:blipFill>
        <p:spPr>
          <a:xfrm>
            <a:off x="6867360" y="-752400"/>
            <a:ext cx="2114640" cy="752400"/>
          </a:xfrm>
          <a:prstGeom prst="rect">
            <a:avLst/>
          </a:prstGeom>
          <a:ln w="0">
            <a:noFill/>
          </a:ln>
        </p:spPr>
      </p:pic>
      <p:pic>
        <p:nvPicPr>
          <p:cNvPr id="477" name="Рисунок 1" descr=""/>
          <p:cNvPicPr/>
          <p:nvPr/>
        </p:nvPicPr>
        <p:blipFill>
          <a:blip r:embed="rId2"/>
          <a:stretch/>
        </p:blipFill>
        <p:spPr>
          <a:xfrm>
            <a:off x="8005680" y="6248520"/>
            <a:ext cx="11289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Box 3"/>
          <p:cNvSpPr/>
          <p:nvPr/>
        </p:nvSpPr>
        <p:spPr>
          <a:xfrm>
            <a:off x="284040" y="0"/>
            <a:ext cx="11776320" cy="60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1000"/>
              </a:lnSpc>
              <a:spcBef>
                <a:spcPts val="1001"/>
              </a:spcBef>
              <a:spcAft>
                <a:spcPts val="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в)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ли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победителями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,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изерами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,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дипломантами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,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лауреатами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ждународных, федеральных и областных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(очных)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фессиональны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курс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по профилю деятельности аттестуемого работника («Учитель года», «Воспитатель года», «Педагог-психолог года», «Сердце отдаю детям», «Вожатый года», «Преподаватель года», «Лучший мастер по профессии», «Лидер в образовании», «Педагогический дебют», «Лучший преподаватель детской школы искусств», «Мастер года», «Учитель-дефектолог России», «Лучший учитель татарского языка и литературы», «Первый учитель»),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государственных преми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осибирской области;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11000"/>
              </a:lnSpc>
              <a:spcBef>
                <a:spcPts val="1001"/>
              </a:spcBef>
              <a:spcAft>
                <a:spcPts val="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международного, федерального, регионального уровней – на высшую квалификационную категорию;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11000"/>
              </a:lnSpc>
              <a:spcBef>
                <a:spcPts val="1001"/>
              </a:spcBef>
              <a:spcAft>
                <a:spcPts val="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2c3c43"/>
                </a:solidFill>
                <a:latin typeface="Times New Roman"/>
                <a:ea typeface="Calibri"/>
              </a:rPr>
              <a:t>-</a:t>
            </a:r>
            <a:r>
              <a:rPr b="0" lang="ru-RU" sz="2800" spc="-1" strike="noStrike">
                <a:solidFill>
                  <a:srgbClr val="2c3c43"/>
                </a:solidFill>
                <a:latin typeface="Times New Roman"/>
                <a:ea typeface="Calibri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муниципальног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уровня – на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перву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квалификационную категорию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79" name="Рисунок 1" descr=""/>
          <p:cNvPicPr/>
          <p:nvPr/>
        </p:nvPicPr>
        <p:blipFill>
          <a:blip r:embed="rId1"/>
          <a:stretch/>
        </p:blipFill>
        <p:spPr>
          <a:xfrm>
            <a:off x="6867360" y="-752400"/>
            <a:ext cx="70992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Схема 3" descr=""/>
          <p:cNvPicPr/>
          <p:nvPr/>
        </p:nvPicPr>
        <p:blipFill>
          <a:blip r:embed="rId1"/>
          <a:stretch/>
        </p:blipFill>
        <p:spPr>
          <a:xfrm>
            <a:off x="298440" y="23760"/>
            <a:ext cx="11569680" cy="112860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 txBox="1"/>
          <p:nvPr/>
        </p:nvSpPr>
        <p:spPr>
          <a:xfrm>
            <a:off x="588960" y="1127160"/>
            <a:ext cx="11268000" cy="5649840"/>
          </a:xfrm>
          <a:prstGeom prst="rect">
            <a:avLst/>
          </a:prstGeom>
          <a:noFill/>
          <a:ln cap="rnd" w="12600">
            <a:solidFill>
              <a:srgbClr val="e6b91e"/>
            </a:solidFill>
            <a:miter/>
          </a:ln>
        </p:spPr>
        <p:txBody>
          <a:bodyPr anchor="t">
            <a:normAutofit/>
          </a:bodyPr>
          <a:p>
            <a:pPr marL="457200" algn="just">
              <a:lnSpc>
                <a:spcPct val="111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57200" algn="just">
              <a:lnSpc>
                <a:spcPct val="111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57200" algn="just">
              <a:lnSpc>
                <a:spcPct val="11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педагогические работники, имеющие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457200" algn="just">
              <a:lnSpc>
                <a:spcPct val="111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Times New Roman"/>
              </a:rPr>
              <a:t>ученые звания и степени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, при аттестации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457200" algn="just">
              <a:lnSpc>
                <a:spcPct val="111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Times New Roman"/>
              </a:rPr>
              <a:t>на ту же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квалификационную категорию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457200" algn="just">
              <a:lnSpc>
                <a:spcPct val="111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имеете первую КК , подать можно по льготе на первую КК, а на высшую КК – на общих основаниях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57200" algn="just">
              <a:lnSpc>
                <a:spcPct val="111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57200" algn="just">
              <a:lnSpc>
                <a:spcPct val="11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57200" algn="just">
              <a:lnSpc>
                <a:spcPct val="111000"/>
              </a:lnSpc>
              <a:spcBef>
                <a:spcPts val="1001"/>
              </a:spcBef>
              <a:spcAft>
                <a:spcPts val="62"/>
              </a:spcAft>
              <a:buClr>
                <a:srgbClr val="90c226"/>
              </a:buClr>
              <a:buSzPct val="80000"/>
              <a:buFont typeface="Trebuchet MS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2" name="Стрелка: вниз 1"/>
          <p:cNvSpPr/>
          <p:nvPr/>
        </p:nvSpPr>
        <p:spPr>
          <a:xfrm>
            <a:off x="5538960" y="995400"/>
            <a:ext cx="793440" cy="914400"/>
          </a:xfrm>
          <a:prstGeom prst="downArrow">
            <a:avLst>
              <a:gd name="adj1" fmla="val 50000"/>
              <a:gd name="adj2" fmla="val 45650"/>
            </a:avLst>
          </a:prstGeom>
          <a:solidFill>
            <a:srgbClr val="90c226"/>
          </a:solidFill>
          <a:ln cap="rnd" w="19080">
            <a:solidFill>
              <a:srgbClr val="3a5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800" y="91800"/>
            <a:ext cx="11937960" cy="110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НА ЗАМЕТКУ!        </a:t>
            </a:r>
            <a:r>
              <a:rPr b="1" lang="ru-RU" sz="3200" spc="-1" strike="noStrike">
                <a:solidFill>
                  <a:srgbClr val="486113"/>
                </a:solidFill>
                <a:latin typeface="Arial"/>
                <a:ea typeface="Arial"/>
              </a:rPr>
              <a:t>Вам может быть отказано </a:t>
            </a:r>
            <a:r>
              <a:rPr b="1" lang="ru-RU" sz="2800" spc="-1" strike="noStrike">
                <a:solidFill>
                  <a:srgbClr val="486113"/>
                </a:solidFill>
                <a:latin typeface="Arial"/>
                <a:ea typeface="Arial"/>
              </a:rPr>
              <a:t>в приеме заявления, если: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295200" y="1473120"/>
            <a:ext cx="11592000" cy="498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450720" algn="just">
              <a:lnSpc>
                <a:spcPct val="10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ращение за установлением той же самой квалификационной категории (первой или высшей) следует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до истечения 1 года об отказ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АК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 установлении этой квалификационной категории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 со дн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нятия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решени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 той же должности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0" algn="just">
              <a:lnSpc>
                <a:spcPct val="101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450720" algn="just">
              <a:lnSpc>
                <a:spcPct val="10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ращаетесь с заявлением в аттестационную комиссию, но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на день подачи заявления не замещаете должность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едагогического работника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в организации, осуществляющей образовательную деятельность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0" algn="just">
              <a:lnSpc>
                <a:spcPct val="101000"/>
              </a:lnSpc>
              <a:spcBef>
                <a:spcPts val="10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0" algn="just">
              <a:lnSpc>
                <a:spcPct val="101000"/>
              </a:lnSpc>
              <a:spcBef>
                <a:spcPts val="10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0" algn="just">
              <a:lnSpc>
                <a:spcPct val="101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Схема 3" descr=""/>
          <p:cNvPicPr/>
          <p:nvPr/>
        </p:nvPicPr>
        <p:blipFill>
          <a:blip r:embed="rId1"/>
          <a:stretch/>
        </p:blipFill>
        <p:spPr>
          <a:xfrm>
            <a:off x="-23760" y="225360"/>
            <a:ext cx="12069720" cy="1444680"/>
          </a:xfrm>
          <a:prstGeom prst="rect">
            <a:avLst/>
          </a:prstGeom>
          <a:ln w="0">
            <a:noFill/>
          </a:ln>
        </p:spPr>
      </p:pic>
      <p:pic>
        <p:nvPicPr>
          <p:cNvPr id="486" name="Объект 5" descr=""/>
          <p:cNvPicPr/>
          <p:nvPr/>
        </p:nvPicPr>
        <p:blipFill>
          <a:blip r:embed="rId2"/>
          <a:stretch/>
        </p:blipFill>
        <p:spPr>
          <a:xfrm>
            <a:off x="176040" y="1407960"/>
            <a:ext cx="11803320" cy="645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82800" y="345960"/>
            <a:ext cx="799776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  <a:ea typeface="Calibri"/>
              </a:rPr>
              <a:t>Отрицательное решение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363600" y="1854360"/>
            <a:ext cx="9321840" cy="41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Calibri"/>
              </a:rPr>
              <a:t>(об отказе в установлении квалификационной категории </a:t>
            </a:r>
            <a:r>
              <a:rPr b="1" lang="ru-RU" sz="2600" spc="-1" strike="noStrike">
                <a:solidFill>
                  <a:srgbClr val="c00000"/>
                </a:solidFill>
                <a:latin typeface="Arial"/>
                <a:ea typeface="Calibri"/>
              </a:rPr>
              <a:t>направляется уведомлени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Calibri"/>
              </a:rPr>
              <a:t>заявителю)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отказе </a:t>
            </a:r>
            <a:r>
              <a:rPr b="1" lang="ru-RU" sz="2600" spc="-1" strike="noStrike">
                <a:solidFill>
                  <a:srgbClr val="c00000"/>
                </a:solidFill>
                <a:latin typeface="Arial"/>
                <a:ea typeface="Times New Roman"/>
              </a:rPr>
              <a:t>высшей КК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сохраняется имеющаяся </a:t>
            </a:r>
            <a:r>
              <a:rPr b="1" lang="ru-RU" sz="2600" spc="-1" strike="noStrike">
                <a:solidFill>
                  <a:srgbClr val="c00000"/>
                </a:solidFill>
                <a:latin typeface="Arial"/>
                <a:ea typeface="Times New Roman"/>
              </a:rPr>
              <a:t>первая КК,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была установлена после 1 сентября 2023 года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(п.40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орядок аттестации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</a:t>
            </a:r>
            <a:r>
              <a:rPr b="1" lang="ru-RU" sz="2600" spc="-1" strike="noStrike">
                <a:solidFill>
                  <a:srgbClr val="c00000"/>
                </a:solidFill>
                <a:latin typeface="Arial"/>
                <a:ea typeface="Times New Roman"/>
              </a:rPr>
              <a:t>отказано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, обращаетесь  по желанию на </a:t>
            </a:r>
            <a:r>
              <a:rPr b="1" lang="ru-RU" sz="2600" spc="-1" strike="noStrike">
                <a:solidFill>
                  <a:srgbClr val="c00000"/>
                </a:solidFill>
                <a:latin typeface="Arial"/>
                <a:ea typeface="Times New Roman"/>
              </a:rPr>
              <a:t>ту же КК не ранее чем через год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(п.41 Порядок аттестации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85400" y="134640"/>
            <a:ext cx="11760120" cy="59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2a5010"/>
                </a:solidFill>
                <a:latin typeface="Trebuchet MS"/>
              </a:rPr>
              <a:t>Информация, необходимая педагогическому работнику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" y="820800"/>
            <a:ext cx="11480760" cy="60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нсультации  в техническом отделе аттестации НИПК и ПРО начальник отдела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Лихоманова Наталья Романовна тел.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23-27-02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.почта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tt09@mail.ru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етодисты отдела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отякова Ирина Александровна тел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23-50-06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.почта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tt-09@yandex.ru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бинина Екатерина Александровна тел.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23-50-06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.почта –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ubinina@ngs.ru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хническая поддержка (если подаете заявление через АИС)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случае ошибок, сбоев, неисправностей и других проблем, связанных с работой самой системы, обращайтесь в службу технической поддержк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зловский Ярослав Александрович.      тел.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 963 942 13 18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онедельник -Пятница с 9:00 до 17:00).      E-mail: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tt@oblcit.ru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34680" y="90360"/>
            <a:ext cx="10922040" cy="17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492" name="Рисунок 1" descr=""/>
          <p:cNvPicPr/>
          <p:nvPr/>
        </p:nvPicPr>
        <p:blipFill>
          <a:blip r:embed="rId1"/>
          <a:stretch/>
        </p:blipFill>
        <p:spPr>
          <a:xfrm>
            <a:off x="839880" y="2117880"/>
            <a:ext cx="988200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3f7819"/>
                </a:solidFill>
                <a:latin typeface="Arial"/>
                <a:ea typeface="Arial"/>
              </a:rPr>
              <a:t>        </a:t>
            </a:r>
            <a:r>
              <a:rPr b="1" lang="ru-RU" sz="4000" spc="-1" strike="noStrike">
                <a:solidFill>
                  <a:srgbClr val="2a5010"/>
                </a:solidFill>
                <a:latin typeface="Arial"/>
                <a:ea typeface="Arial"/>
              </a:rPr>
              <a:t>Рекомендуем ознакомиться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01320" y="1526760"/>
            <a:ext cx="11736360" cy="50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932313"/>
                </a:solidFill>
                <a:latin typeface="Arial"/>
                <a:ea typeface="Arial"/>
              </a:rPr>
              <a:t>Приказ Министерства здравоохранения и социального развития РФ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 26 августа 2010 г. N 761н  «Об утверждении Единого квалификационного справочника должностей руководителей, специалистов и служащих, раздел "Квалификационные </a:t>
            </a:r>
            <a:r>
              <a:rPr b="1" lang="ru-RU" sz="2800" spc="-1" strike="noStrike">
                <a:solidFill>
                  <a:srgbClr val="2a5010"/>
                </a:solidFill>
                <a:latin typeface="Arial"/>
                <a:ea typeface="Arial"/>
              </a:rPr>
              <a:t>характеристики должностей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ботников образования»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932313"/>
                </a:solidFill>
                <a:latin typeface="Arial"/>
                <a:ea typeface="Arial"/>
              </a:rPr>
              <a:t>Постановление  Правительства РФ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 21 февраля 2022 г. N  225   «Об утверждении </a:t>
            </a:r>
            <a:r>
              <a:rPr b="1" lang="ru-RU" sz="2800" spc="-1" strike="noStrike">
                <a:solidFill>
                  <a:srgbClr val="2a5010"/>
                </a:solidFill>
                <a:latin typeface="Arial"/>
                <a:ea typeface="Arial"/>
              </a:rPr>
              <a:t>номенклатуры должностей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едагогических работников организаций, осуществляющих образовательную деятельность, должностей руководителей образовательных организаций»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12120" indent="-31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12120" indent="-312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73160" y="232920"/>
            <a:ext cx="11633040" cy="13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932313"/>
                </a:solidFill>
                <a:latin typeface="Times New Roman"/>
                <a:ea typeface="MS Mincho"/>
              </a:rPr>
              <a:t>Найти нормативные документы по аттестации и ознакомиться с памятками </a:t>
            </a:r>
            <a:r>
              <a:rPr b="1" lang="ru-RU" sz="2800" spc="-1" strike="noStrike">
                <a:solidFill>
                  <a:srgbClr val="3f7819"/>
                </a:solidFill>
                <a:latin typeface="Times New Roman"/>
                <a:ea typeface="MS Mincho"/>
              </a:rPr>
              <a:t>и методическими </a:t>
            </a:r>
            <a:r>
              <a:rPr b="1" lang="ru-RU" sz="2800" spc="-1" strike="noStrike">
                <a:solidFill>
                  <a:srgbClr val="932313"/>
                </a:solidFill>
                <a:latin typeface="Times New Roman"/>
                <a:ea typeface="MS Mincho"/>
              </a:rPr>
              <a:t>рекомендациями</a:t>
            </a:r>
            <a:r>
              <a:rPr b="1" lang="ru-RU" sz="2800" spc="-1" strike="noStrike">
                <a:solidFill>
                  <a:srgbClr val="3f7819"/>
                </a:solidFill>
                <a:latin typeface="Times New Roman"/>
                <a:ea typeface="MS Mincho"/>
              </a:rPr>
              <a:t> по заполнению приложения к заявлению можно  </a:t>
            </a:r>
            <a:r>
              <a:rPr b="1" lang="ru-RU" sz="2800" spc="-1" strike="noStrike">
                <a:solidFill>
                  <a:srgbClr val="932313"/>
                </a:solidFill>
                <a:latin typeface="Times New Roman"/>
                <a:ea typeface="MS Mincho"/>
              </a:rPr>
              <a:t>на сайте НИПКиПР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92160" y="1616040"/>
          <a:ext cx="11988720" cy="5013360"/>
        </p:xfrm>
        <a:graphic>
          <a:graphicData uri="http://schemas.openxmlformats.org/drawingml/2006/table">
            <a:tbl>
              <a:tblPr/>
              <a:tblGrid>
                <a:gridCol w="1198872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90c226"/>
                        </a:buClr>
                        <a:buSzPct val="80000"/>
                        <a:buFont typeface="Wingdings 3" charset="2"/>
                        <a:buChar char="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нужно </a:t>
                      </a:r>
                      <a:r>
                        <a:rPr b="1" lang="ru-RU" sz="3200" spc="-1" strike="noStrike">
                          <a:solidFill>
                            <a:srgbClr val="932313"/>
                          </a:solidFill>
                          <a:latin typeface="Times New Roman"/>
                          <a:ea typeface="MS Mincho"/>
                        </a:rPr>
                        <a:t>зайти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«НИПКиПРО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сведения об образовательной организации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структура и органы управления образовательной организацией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932313"/>
                          </a:solidFill>
                          <a:latin typeface="Times New Roman"/>
                          <a:ea typeface="Times New Roman"/>
                        </a:rPr>
                        <a:t>технический отдел аттестации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ических кадров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r>
                        <a:rPr b="1" lang="ru-RU" sz="3200" spc="-1" strike="noStrike">
                          <a:solidFill>
                            <a:srgbClr val="932313"/>
                          </a:solidFill>
                          <a:latin typeface="Times New Roman"/>
                          <a:ea typeface="Times New Roman"/>
                        </a:rPr>
                        <a:t>документац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</a:tbl>
          </a:graphicData>
        </a:graphic>
      </p:graphicFrame>
      <p:sp>
        <p:nvSpPr>
          <p:cNvPr id="433" name="Стрелка: вниз 3"/>
          <p:cNvSpPr/>
          <p:nvPr/>
        </p:nvSpPr>
        <p:spPr>
          <a:xfrm>
            <a:off x="5843520" y="1930320"/>
            <a:ext cx="484200" cy="325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3a5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4" name="Стрелка: вниз 4"/>
          <p:cNvSpPr/>
          <p:nvPr/>
        </p:nvSpPr>
        <p:spPr>
          <a:xfrm>
            <a:off x="8067600" y="2803680"/>
            <a:ext cx="496800" cy="426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3a5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Стрелка: вниз 5"/>
          <p:cNvSpPr/>
          <p:nvPr/>
        </p:nvSpPr>
        <p:spPr>
          <a:xfrm>
            <a:off x="2722680" y="4206960"/>
            <a:ext cx="484200" cy="550800"/>
          </a:xfrm>
          <a:prstGeom prst="downArrow">
            <a:avLst>
              <a:gd name="adj1" fmla="val 50000"/>
              <a:gd name="adj2" fmla="val 49994"/>
            </a:avLst>
          </a:prstGeom>
          <a:solidFill>
            <a:srgbClr val="90c226"/>
          </a:solidFill>
          <a:ln cap="rnd" w="19080">
            <a:solidFill>
              <a:srgbClr val="3a5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Стрелка: вниз 6"/>
          <p:cNvSpPr/>
          <p:nvPr/>
        </p:nvSpPr>
        <p:spPr>
          <a:xfrm>
            <a:off x="2722680" y="5384880"/>
            <a:ext cx="579240" cy="426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3a5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7" name=""/>
          <p:cNvGraphicFramePr/>
          <p:nvPr/>
        </p:nvGraphicFramePr>
        <p:xfrm>
          <a:off x="792000" y="189000"/>
          <a:ext cx="10922040" cy="6489720"/>
        </p:xfrm>
        <a:graphic>
          <a:graphicData uri="http://schemas.openxmlformats.org/drawingml/2006/table">
            <a:tbl>
              <a:tblPr/>
              <a:tblGrid>
                <a:gridCol w="10922040"/>
              </a:tblGrid>
              <a:tr h="1116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000" spc="-1" strike="noStrike">
                          <a:solidFill>
                            <a:srgbClr val="2a5010"/>
                          </a:solidFill>
                          <a:latin typeface="Times New Roman"/>
                          <a:ea typeface="MS Mincho"/>
                        </a:rPr>
                        <a:t>Основные нововведения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bf4ca"/>
                    </a:solidFill>
                  </a:tcPr>
                </a:tc>
              </a:tr>
              <a:tr h="605520"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90c226"/>
                        </a:buClr>
                        <a:buSzPct val="80000"/>
                        <a:buFont typeface="Wingdings 3" charset="2"/>
                        <a:buChar char="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 </a:t>
                      </a:r>
                      <a:r>
                        <a:rPr b="1" lang="ru-RU" sz="3200" spc="-1" strike="noStrike">
                          <a:solidFill>
                            <a:srgbClr val="932313"/>
                          </a:solidFill>
                          <a:latin typeface="Times New Roman"/>
                          <a:ea typeface="MS Mincho"/>
                        </a:rPr>
                        <a:t>срок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установления КК </a:t>
                      </a:r>
                      <a:r>
                        <a:rPr b="1" lang="ru-RU" sz="3200" spc="-1" strike="noStrike">
                          <a:solidFill>
                            <a:srgbClr val="932313"/>
                          </a:solidFill>
                          <a:latin typeface="Times New Roman"/>
                          <a:ea typeface="MS Mincho"/>
                        </a:rPr>
                        <a:t>не ограничен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10688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 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 новые КК </a:t>
                      </a:r>
                      <a:r>
                        <a:rPr b="1" lang="ru-RU" sz="3200" spc="-1" strike="noStrike">
                          <a:solidFill>
                            <a:srgbClr val="932313"/>
                          </a:solidFill>
                          <a:latin typeface="Times New Roman"/>
                          <a:ea typeface="MS Mincho"/>
                        </a:rPr>
                        <a:t>«педагог-методист»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, «</a:t>
                      </a:r>
                      <a:r>
                        <a:rPr b="1" lang="ru-RU" sz="3200" spc="-1" strike="noStrike">
                          <a:solidFill>
                            <a:srgbClr val="932313"/>
                          </a:solidFill>
                          <a:latin typeface="Times New Roman"/>
                          <a:ea typeface="MS Mincho"/>
                        </a:rPr>
                        <a:t>педагог-наставник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20728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 для аттестации на высшую КК </a:t>
                      </a:r>
                      <a:r>
                        <a:rPr b="1" lang="ru-RU" sz="3200" spc="-1" strike="noStrike">
                          <a:solidFill>
                            <a:srgbClr val="932313"/>
                          </a:solidFill>
                          <a:latin typeface="Times New Roman"/>
                          <a:ea typeface="MS Mincho"/>
                        </a:rPr>
                        <a:t>нет ограничений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длительности наличия установленной  1КК </a:t>
                      </a:r>
                      <a:r>
                        <a:rPr b="1" lang="ru-RU" sz="3200" spc="-1" strike="noStrike">
                          <a:solidFill>
                            <a:srgbClr val="932313"/>
                          </a:solidFill>
                          <a:latin typeface="Times New Roman"/>
                          <a:ea typeface="MS Mincho"/>
                        </a:rPr>
                        <a:t>(по любой из должностей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16257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ля аттестации на КК</a:t>
                      </a:r>
                      <a:r>
                        <a:rPr b="1" lang="ru-RU" sz="3200" spc="-1" strike="noStrike">
                          <a:solidFill>
                            <a:srgbClr val="932313"/>
                          </a:solidFill>
                          <a:latin typeface="Times New Roman"/>
                          <a:ea typeface="MS Mincho"/>
                        </a:rPr>
                        <a:t>«педагог-методист»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и </a:t>
                      </a:r>
                      <a:r>
                        <a:rPr b="1" lang="ru-RU" sz="3200" spc="-1" strike="noStrike">
                          <a:solidFill>
                            <a:srgbClr val="932313"/>
                          </a:solidFill>
                          <a:latin typeface="Times New Roman"/>
                          <a:ea typeface="MS Mincho"/>
                        </a:rPr>
                        <a:t>«педагог-наставник»</a:t>
                      </a:r>
                      <a:r>
                        <a:rPr b="1" lang="ru-RU" sz="3200" spc="-1" strike="noStrike">
                          <a:solidFill>
                            <a:srgbClr val="932313"/>
                          </a:solidFill>
                          <a:latin typeface="Times New Roman"/>
                          <a:ea typeface="Times New Roman"/>
                        </a:rPr>
                        <a:t> нет ограничений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тельности наличия установленной  высшей К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25440" y="609120"/>
            <a:ext cx="109425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932313"/>
                </a:solidFill>
                <a:latin typeface="Times New Roman"/>
                <a:ea typeface="Times New Roman"/>
              </a:rPr>
              <a:t>ВИДЫ квалификационных категорий 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9" name="Половина рамки 9"/>
          <p:cNvSpPr/>
          <p:nvPr/>
        </p:nvSpPr>
        <p:spPr>
          <a:xfrm>
            <a:off x="777960" y="4897440"/>
            <a:ext cx="2265120" cy="1468440"/>
          </a:xfrm>
          <a:custGeom>
            <a:avLst/>
            <a:gdLst/>
            <a:ahLst/>
            <a:rect l="l" t="t" r="r" b="b"/>
            <a:pathLst>
              <a:path w="2265362" h="1468438">
                <a:moveTo>
                  <a:pt x="0" y="0"/>
                </a:moveTo>
                <a:lnTo>
                  <a:pt x="2265362" y="0"/>
                </a:lnTo>
                <a:lnTo>
                  <a:pt x="1510249" y="489474"/>
                </a:lnTo>
                <a:lnTo>
                  <a:pt x="489474" y="489474"/>
                </a:lnTo>
                <a:lnTo>
                  <a:pt x="489474" y="1151154"/>
                </a:lnTo>
                <a:lnTo>
                  <a:pt x="0" y="1468438"/>
                </a:lnTo>
                <a:lnTo>
                  <a:pt x="0" y="0"/>
                </a:lnTo>
                <a:close/>
              </a:path>
            </a:pathLst>
          </a:custGeom>
          <a:solidFill>
            <a:srgbClr val="dbf4ca"/>
          </a:solidFill>
          <a:ln cap="rnd" w="19080">
            <a:solidFill>
              <a:srgbClr val="3a5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0" name="Половина рамки 10"/>
          <p:cNvSpPr/>
          <p:nvPr/>
        </p:nvSpPr>
        <p:spPr>
          <a:xfrm>
            <a:off x="3389400" y="3882960"/>
            <a:ext cx="2163600" cy="1393920"/>
          </a:xfrm>
          <a:custGeom>
            <a:avLst/>
            <a:gdLst/>
            <a:ahLst/>
            <a:rect l="l" t="t" r="r" b="b"/>
            <a:pathLst>
              <a:path w="2163762" h="1393826">
                <a:moveTo>
                  <a:pt x="0" y="0"/>
                </a:moveTo>
                <a:lnTo>
                  <a:pt x="2163762" y="0"/>
                </a:lnTo>
                <a:lnTo>
                  <a:pt x="1442515" y="464604"/>
                </a:lnTo>
                <a:lnTo>
                  <a:pt x="464604" y="464604"/>
                </a:lnTo>
                <a:lnTo>
                  <a:pt x="464604" y="1094543"/>
                </a:lnTo>
                <a:lnTo>
                  <a:pt x="0" y="1393826"/>
                </a:lnTo>
                <a:lnTo>
                  <a:pt x="0" y="0"/>
                </a:lnTo>
                <a:close/>
              </a:path>
            </a:pathLst>
          </a:custGeom>
          <a:solidFill>
            <a:srgbClr val="dbf4ca"/>
          </a:solidFill>
          <a:ln cap="rnd" w="19080">
            <a:solidFill>
              <a:srgbClr val="3a5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1" name="Половина рамки 11"/>
          <p:cNvSpPr/>
          <p:nvPr/>
        </p:nvSpPr>
        <p:spPr>
          <a:xfrm>
            <a:off x="7061040" y="2651040"/>
            <a:ext cx="3870360" cy="1941480"/>
          </a:xfrm>
          <a:custGeom>
            <a:avLst/>
            <a:gdLst/>
            <a:ahLst/>
            <a:rect l="l" t="t" r="r" b="b"/>
            <a:pathLst>
              <a:path w="3870325" h="1941513">
                <a:moveTo>
                  <a:pt x="0" y="0"/>
                </a:moveTo>
                <a:lnTo>
                  <a:pt x="3870325" y="0"/>
                </a:lnTo>
                <a:lnTo>
                  <a:pt x="2580230" y="647165"/>
                </a:lnTo>
                <a:lnTo>
                  <a:pt x="647165" y="647165"/>
                </a:lnTo>
                <a:lnTo>
                  <a:pt x="647165" y="1616869"/>
                </a:lnTo>
                <a:lnTo>
                  <a:pt x="0" y="1941513"/>
                </a:lnTo>
                <a:lnTo>
                  <a:pt x="0" y="0"/>
                </a:lnTo>
                <a:close/>
              </a:path>
            </a:pathLst>
          </a:custGeom>
          <a:solidFill>
            <a:srgbClr val="dbf4ca"/>
          </a:solidFill>
          <a:ln cap="rnd" w="19080">
            <a:solidFill>
              <a:srgbClr val="3a5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2" name="TextBox 13"/>
          <p:cNvSpPr/>
          <p:nvPr/>
        </p:nvSpPr>
        <p:spPr>
          <a:xfrm>
            <a:off x="627120" y="4398840"/>
            <a:ext cx="2030400" cy="5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Первая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Calibri"/>
              </a:rPr>
              <a:t>КК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3" name="TextBox 15"/>
          <p:cNvSpPr/>
          <p:nvPr/>
        </p:nvSpPr>
        <p:spPr>
          <a:xfrm>
            <a:off x="3198960" y="3397320"/>
            <a:ext cx="2163600" cy="5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Высшая КК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4" name="TextBox 23"/>
          <p:cNvSpPr/>
          <p:nvPr/>
        </p:nvSpPr>
        <p:spPr>
          <a:xfrm>
            <a:off x="7061040" y="1257480"/>
            <a:ext cx="5054760" cy="32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932313"/>
                </a:solidFill>
                <a:latin typeface="Times New Roman"/>
                <a:ea typeface="Calibri"/>
              </a:rPr>
              <a:t>        </a:t>
            </a:r>
            <a:r>
              <a:rPr b="1" lang="ru-RU" sz="3200" spc="-1" strike="noStrike">
                <a:solidFill>
                  <a:srgbClr val="932313"/>
                </a:solidFill>
                <a:latin typeface="Times New Roman"/>
                <a:ea typeface="Calibri"/>
              </a:rPr>
              <a:t>педагог-методист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проходят лица занимающие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лжности </a:t>
            </a:r>
            <a:r>
              <a:rPr b="1" lang="ru-RU" sz="2000" spc="-1" strike="noStrike">
                <a:solidFill>
                  <a:srgbClr val="932313"/>
                </a:solidFill>
                <a:latin typeface="Times New Roman"/>
                <a:ea typeface="Calibri"/>
              </a:rPr>
              <a:t>методист и старший методи</a:t>
            </a:r>
            <a:r>
              <a:rPr b="1" lang="ru-RU" sz="2400" spc="-1" strike="noStrike">
                <a:solidFill>
                  <a:srgbClr val="932313"/>
                </a:solidFill>
                <a:latin typeface="Times New Roman"/>
                <a:ea typeface="Calibri"/>
              </a:rPr>
              <a:t>ст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932313"/>
                </a:solidFill>
                <a:latin typeface="Times New Roman"/>
                <a:ea typeface="Calibri"/>
              </a:rPr>
              <a:t>педагог-наставник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5" name="TextBox 3"/>
          <p:cNvSpPr/>
          <p:nvPr/>
        </p:nvSpPr>
        <p:spPr>
          <a:xfrm>
            <a:off x="1684440" y="5419800"/>
            <a:ext cx="390348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Calibri"/>
              </a:rPr>
              <a:t>основные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обязанност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едагогической должност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6" name="TextBox 5"/>
          <p:cNvSpPr/>
          <p:nvPr/>
        </p:nvSpPr>
        <p:spPr>
          <a:xfrm>
            <a:off x="6932520" y="4575240"/>
            <a:ext cx="456588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932313"/>
                </a:solidFill>
                <a:latin typeface="Times New Roman"/>
                <a:ea typeface="Calibri"/>
              </a:rPr>
              <a:t>дополнительные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язанност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вязанные с методической работой или наставничество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800" y="-360"/>
            <a:ext cx="12099960" cy="17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.35   Первая КК</a:t>
            </a:r>
            <a:r>
              <a:rPr b="1" lang="ru-RU" sz="2900" spc="-1" strike="noStrike">
                <a:solidFill>
                  <a:srgbClr val="932313"/>
                </a:solidFill>
                <a:latin typeface="Times New Roman"/>
                <a:ea typeface="Times New Roman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м работникам устанавливается на основе:</a:t>
            </a:r>
            <a:br>
              <a:rPr sz="2900"/>
            </a:b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-162360" y="1100160"/>
            <a:ext cx="12261960" cy="56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5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- стабильных положительных результатов освоен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бучающимися образовательных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рограм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в том числе в области искусств, физической культуры и спорта по итогам мониторингов, проводимых организацией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105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- стабильных положительных результато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своения обучающимися образовательных программ по итогам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мониторинга системы образова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проводимого в порядке, установленном постановлением Правительства Российской Федерации от 5 августа 2013 г. N 662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105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- выявления развит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 обучающихся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способносте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к научной (интеллектуальной), творческой, физкультурно-спортивной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105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- личного вклад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овышение качества образова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совершенствования методов обучения и воспитания,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транслирова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в педагогических коллективах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опыт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актических результатов своей профессиональной деятельности,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активного участия 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те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методических объединени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едагогических работников организаци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.35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51120" y="196560"/>
            <a:ext cx="12192120" cy="108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.36. Высшая КК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м работникам устанавливается на основе: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203040" y="1480680"/>
            <a:ext cx="1168416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Arial"/>
                <a:ea typeface="Times New Roman"/>
              </a:rPr>
              <a:t>-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Times New Roman"/>
              </a:rPr>
              <a:t>достижени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обучающимися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Times New Roman"/>
              </a:rPr>
              <a:t>положительной динамики результатов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освоения образовательных программ, в том числе в области искусств, физической культуры и спорта по итогам мониторингов, проводимых организацией;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Times New Roman"/>
              </a:rPr>
              <a:t>-  достижения обучающимися положительных результатов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освоения образовательных программ по итогам мониторинга системы образования, проводимого в порядке, установленном постановлением Правительства Российской Федерации от 5 августа 2013 г. N 662</a:t>
            </a:r>
            <a:r>
              <a:rPr b="1" lang="ru-RU" sz="2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just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  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Times New Roman"/>
              </a:rPr>
              <a:t>- выявления и развити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ностей обучающихся к научной (интеллектуальной), творческой, физкультурно-спортивной деятельности, а также их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Times New Roman"/>
              </a:rPr>
              <a:t>участия в олимпиадах, конкурсах, фестивалях, соревнованиях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7f7f7f"/>
                </a:solidFill>
                <a:latin typeface="Trebuchet MS"/>
              </a:rPr>
              <a:t>П.35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" name="Стрелка: вниз 1"/>
          <p:cNvSpPr/>
          <p:nvPr/>
        </p:nvSpPr>
        <p:spPr>
          <a:xfrm>
            <a:off x="9275760" y="6661080"/>
            <a:ext cx="666720" cy="596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3a5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Box 2"/>
          <p:cNvSpPr/>
          <p:nvPr/>
        </p:nvSpPr>
        <p:spPr>
          <a:xfrm>
            <a:off x="538200" y="782640"/>
            <a:ext cx="10455120" cy="61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- личного вклада в повышение качества образова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совершенствования методов обучения и воспитания, и продуктивного использования новых образовательных технологий,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транслирова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в педагогических коллективах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опыт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актических результатов своей профессиональной деятельности, в том числе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экспериментальной и инновационной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- активного участи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работе методических объединений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едагогических работников организаций, в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разработке программно-методического сопровождени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разовательного процесса,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профессиональных конкурсах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2T06:57:22Z</dcterms:created>
  <dc:creator>Лихоманова</dc:creator>
  <dc:description/>
  <dc:language>en-US</dc:language>
  <cp:lastModifiedBy>ЛихомановаНР</cp:lastModifiedBy>
  <cp:lastPrinted>2023-08-22T03:38:00Z</cp:lastPrinted>
  <dcterms:modified xsi:type="dcterms:W3CDTF">2024-09-12T03:57:07Z</dcterms:modified>
  <cp:revision>300</cp:revision>
  <dc:subject/>
  <dc:title>АТТЕСТАЦИЯ ПЕДАГОГИЧЕСКИХ РАБОТНИКОВ</dc:title>
</cp:coreProperties>
</file>